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C2DB0-C6D6-4B14-B2A2-126A8E973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D61F5-F923-4250-80FE-972F64775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8E87C-FD4C-4899-90F6-6E7DB48F4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9093F-00DD-4752-AEEF-8C9366129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C7056-3F01-42BF-A6A5-508EBF0AA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18804-A68D-4832-855A-B8AA0BDCD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941B1-8F64-4079-A2BC-28EF81B36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0A0E7-6A97-4748-8BE9-FDAD01D10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52342-79CC-4A37-910A-A90CACBDA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CCEF3-B257-4A10-B205-C8FF849CF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368FB-6362-4F1D-A342-7B0CCBD51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BF66F-3455-48DD-9338-8C688E9DA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2DDF3-2DAF-4B81-BC35-BB04AC79E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6B8CE-A999-461C-B82F-23207DC09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F1420-AA5C-497A-A5E2-3BD902B30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24CE9-D5D1-42BF-893C-7EF1C7ACF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4480D-F637-46A2-A63F-BA2ECE25F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45785A-2512-464A-B68B-8664BF768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5D06C6-3878-4A64-AD88-725848BA2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00E4F8-8F26-47CE-922E-398CDBF88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13D1CF-1D62-418E-A381-EA52DC5F9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361837-2D67-40B2-894A-BA683474F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E66A7-040C-42F5-9D08-F6796B47B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CBB5F2-DEAB-438E-9E8F-A430D665D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5EF8BC-2C0A-42A9-A4CA-3722D01DB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3DEF12-CF9D-4D3A-9FCB-20F1EA6F4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F9E0D6-C600-4429-B19E-8C71F34B1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42F91E-C9B8-488E-B1BC-5280C90AB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9753D5-A6C5-4DD0-8510-0439F83E4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30C177-BE65-4E5D-9D92-C42D44606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A44EF0-6F7D-4118-9C01-D2A47FA13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22B3F9-A9E1-41DE-8467-D976F20E2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0990F0-E354-461B-8FD3-00AED78C0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720B4-5D70-4063-BFB9-9A279552D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00A3E7-0F0A-4ABE-AD12-9D1A05715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E7D0C8-2008-4A02-8006-02405DBBD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7E5568-4B5F-4E4E-BCC1-112B6E788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D1C0C6-0D78-411E-95EF-9B3CDBB57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0546EE-D1F9-4E48-920C-5D9C2AA32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674D54-40B7-4D6F-AF57-3F4A2431B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ED9836-34A4-48F0-811F-3585F811E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EA1E96-68A2-4AAD-BB91-6BAAED4CF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ED7DFF-865A-44B8-A301-0E8029FAD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467154-C561-4AB6-91B1-4BF33C497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FD436-2682-4933-B203-384A565BB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EDB1A3-FD30-4C74-BCC7-67DD1F4A1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34E1F0-CF89-4A62-888D-84C571836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1D2675-9272-48AB-9383-645D92945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9B0A8D-9029-42B3-B359-4ED850552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B8F80D-19EA-4A12-B707-C79518E73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5A26A8-CCB4-4BD3-ADB4-73FFAA6B5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89DC3A-77A8-4018-AFFD-CAECCDDF7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F54CAB-149B-46F0-A21B-C8DEE832F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1DFFEA-48D6-45E6-AEBF-5DED43401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DB5ABF-C9CA-4E23-A845-81A6442EE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29EC9-24DA-486B-8C6C-328C5C58A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370F85-EEEC-4283-B4BD-4D283A028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7B1935-A8F6-4561-895A-F95319DE9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0B6DDD-EA59-4FB2-A917-98978F3F4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3D73C5-99D8-4AFB-95B3-933A3AB93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EB9F1B-CBDE-491E-BB10-08D9540E3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A58602-E890-44C5-84AA-1ED931619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01107C-DF86-48C1-A71B-4A7A08F31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F3FBD4-BB4A-44FF-A6C5-249917DA8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801313-2EF6-418A-A0E7-527BBFEE5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367A87-FFFE-47A9-A790-394066BC7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06765-59D3-4E05-AAE8-3184560E7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D607FD-CB9A-4335-A4B0-76C322A25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9B160C-4F0C-43BF-BB07-EEF7DB3E6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FAE637-E77D-4ACA-9BBE-373178CC3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B432C5-E38D-4857-A627-99DA708F4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0BAF38-53D1-4030-90A5-2FB78D34B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B656FB-C405-4546-B81E-24056C43B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7BFD30-4576-4BB0-AC0A-B1D403895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37B13C-2F79-4320-A704-9EDC4FCD0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A56C1C-8684-4762-9981-68E27C0D7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0B2B6E-183D-4496-A46C-C226809BC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84443-480A-448D-A8DF-96EF1D782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87300C-7413-4AC6-9F1C-DFDDFE9D1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A9F2BC-9A4D-4CE6-9A2A-AE93550B1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5DC983-A24D-4911-8541-CE8AF3B6F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77D2F4-9DA1-4B7D-A88B-D2FA31AE2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50E8B6-1BA1-4097-9A4C-5E1636686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0A4D74-815F-4569-AFF9-ADF5C9368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80C8A0-2B3F-4DE4-AAA4-298573228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D6A810-530F-4C84-8BBE-94A9E1926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9EDDE9-DC48-4D5B-9F18-1660CD110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DAD57D-4F7F-4237-850D-2D6F1666B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0C59E-4FD1-407F-8CB3-2BFB55E37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F8DC86-0134-4A60-AFE4-0D42F6B8E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8E7337-7044-4062-80C7-62D49849F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0698C0-B796-4368-9818-7C3992D83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640552-53DF-44A6-B1B4-5CD1C5602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CF9632-ECD0-4FF6-89BF-79DCB1976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4F0EAF-7A6C-450E-8F32-0F0E20BCF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3999C5-9EE7-4D31-9D73-0756A4673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A8D6B-8F96-4A3F-BE96-9113A4E2D4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Isosceles Triangle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C3EA4-093B-4298-BE5A-0BA5420B31B8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0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0942C-1558-49AC-82E9-629E6DD584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ight Triangle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4" name="Isosceles Triangle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5" name="Straight Connector 14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Straight Connector 15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D4168-2E27-4D99-9E75-64CA41E5608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9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13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14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E9611-D942-47EE-AE21-D26C4105D4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6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7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8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52D7A-3B5E-40F5-A16D-E859B738B1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9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20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21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7CCFA-BB7A-4285-BEAB-69ABF3407F8C}" type="slidenum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22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23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24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3E2CD-193D-48D4-894C-E94F6231D014}" type="slidenum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Title 1" descr=""/>
          <p:cNvPicPr/>
          <p:nvPr/>
        </p:nvPicPr>
        <p:blipFill>
          <a:blip r:embed="rId1"/>
          <a:stretch/>
        </p:blipFill>
        <p:spPr>
          <a:xfrm>
            <a:off x="536400" y="652320"/>
            <a:ext cx="8479080" cy="1597320"/>
          </a:xfrm>
          <a:prstGeom prst="rect">
            <a:avLst/>
          </a:prstGeom>
          <a:ln w="0">
            <a:noFill/>
          </a:ln>
        </p:spPr>
      </p:pic>
      <p:pic>
        <p:nvPicPr>
          <p:cNvPr id="346" name="Subtitle 2" descr=""/>
          <p:cNvPicPr/>
          <p:nvPr/>
        </p:nvPicPr>
        <p:blipFill>
          <a:blip r:embed="rId2"/>
          <a:stretch/>
        </p:blipFill>
        <p:spPr>
          <a:xfrm>
            <a:off x="536400" y="2170080"/>
            <a:ext cx="8259840" cy="184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Title 1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242560" cy="1547640"/>
          </a:xfrm>
          <a:prstGeom prst="rect">
            <a:avLst/>
          </a:prstGeom>
          <a:ln w="0">
            <a:noFill/>
          </a:ln>
        </p:spPr>
      </p:pic>
      <p:sp>
        <p:nvSpPr>
          <p:cNvPr id="364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ake 2 sticky not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Browse the visual representation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Respond twice (one per sticky note):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649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Observations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649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Questions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649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Reflections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649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Connections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Title 1" descr=""/>
          <p:cNvPicPr/>
          <p:nvPr/>
        </p:nvPicPr>
        <p:blipFill>
          <a:blip r:embed="rId1"/>
          <a:stretch/>
        </p:blipFill>
        <p:spPr>
          <a:xfrm>
            <a:off x="450720" y="201600"/>
            <a:ext cx="8242560" cy="1468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66" name=""/>
          <p:cNvGraphicFramePr/>
          <p:nvPr/>
        </p:nvGraphicFramePr>
        <p:xfrm>
          <a:off x="457200" y="1981080"/>
          <a:ext cx="8229600" cy="484668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ROL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88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AUDIENC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88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FORMA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88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TOPIC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88c"/>
                    </a:solidFill>
                  </a:tcPr>
                </a:tc>
              </a:tr>
              <a:tr h="155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Darwi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Contemporary High School Student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Lett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Progres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Shakespear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Einstei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Blog Pos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Inventio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Futuristic Robo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Future Generation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Facebook Newsfee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Writ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Google CEO Eric Schmid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Robo-Leg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Emai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Educatio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Title 1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242560" cy="1547640"/>
          </a:xfrm>
          <a:prstGeom prst="rect">
            <a:avLst/>
          </a:prstGeom>
          <a:ln w="0">
            <a:noFill/>
          </a:ln>
        </p:spPr>
      </p:pic>
      <p:sp>
        <p:nvSpPr>
          <p:cNvPr id="348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Questions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Title 1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242560" cy="1547640"/>
          </a:xfrm>
          <a:prstGeom prst="rect">
            <a:avLst/>
          </a:prstGeom>
          <a:ln w="0">
            <a:noFill/>
          </a:ln>
        </p:spPr>
      </p:pic>
      <p:sp>
        <p:nvSpPr>
          <p:cNvPr id="350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lnSpc>
                <a:spcPct val="90000"/>
              </a:lnSpc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Our Questions and Concerns: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Assigning Groups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Participation—what about reluctant/shy students?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Planning but not Pre-determining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Keeping Students On-task (when and how)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Time, Small vs. Full Group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Engagement and Goals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Grading Discussion?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General Anxiety and Feelings of Being Overwhelmed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Title 1" descr=""/>
          <p:cNvPicPr/>
          <p:nvPr/>
        </p:nvPicPr>
        <p:blipFill>
          <a:blip r:embed="rId1"/>
          <a:stretch/>
        </p:blipFill>
        <p:spPr>
          <a:xfrm>
            <a:off x="450720" y="201600"/>
            <a:ext cx="8242560" cy="1468440"/>
          </a:xfrm>
          <a:prstGeom prst="rect">
            <a:avLst/>
          </a:prstGeom>
          <a:ln w="0">
            <a:noFill/>
          </a:ln>
        </p:spPr>
      </p:pic>
      <p:sp>
        <p:nvSpPr>
          <p:cNvPr id="352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urpose—give students a clear focus for what they will be discussing, always connecting to the Essential Questio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ocess—clear and explicit directions for their role(s) and task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liverable—Accountability is ESSENTIAL to an on-task discussio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Title 1" descr=""/>
          <p:cNvPicPr/>
          <p:nvPr/>
        </p:nvPicPr>
        <p:blipFill>
          <a:blip r:embed="rId1"/>
          <a:stretch/>
        </p:blipFill>
        <p:spPr>
          <a:xfrm>
            <a:off x="450720" y="201600"/>
            <a:ext cx="8242560" cy="1468440"/>
          </a:xfrm>
          <a:prstGeom prst="rect">
            <a:avLst/>
          </a:prstGeom>
          <a:ln w="0">
            <a:noFill/>
          </a:ln>
        </p:spPr>
      </p:pic>
      <p:sp>
        <p:nvSpPr>
          <p:cNvPr id="354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Silent Discussion Thread Protocol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Write a Self, Self-World or “On My Own” question that relates to the topic of Progress.  Label what type of question it is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Silently, pass your paper to the right.  Read the question, respond and write a follow-up question.  Label what type of question it is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Silently, pass your paper to the right.  Repeat.  Return to owner. 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56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urpose: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649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Further explore Essential Question “Is Progress Always Good?” based on reading of articles (Essential Question Specific)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649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Identify patterns, summarize key details, synthesize understanding of texts (Task-Specific)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Title 1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242560" cy="1547640"/>
          </a:xfrm>
          <a:prstGeom prst="rect">
            <a:avLst/>
          </a:prstGeom>
          <a:ln w="0">
            <a:noFill/>
          </a:ln>
        </p:spPr>
      </p:pic>
      <p:sp>
        <p:nvSpPr>
          <p:cNvPr id="358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Process: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9c007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From the articles, choose the one that is most interesting to you.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9c007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Find the people who have the same color article as you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9c007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Take turns reading aloud, stopping when the text cues you to do so and taking notes on the “Think-Aloud cued response”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Deliverable: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Each person will need to be prepared to share the article and their discussion notes with another group 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3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3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3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3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3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3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60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“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more we use nonlinguistic representations while learning, the better we can think about and recall knowledge.”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60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(Marzano et al, 2001)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Title 1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242560" cy="1547640"/>
          </a:xfrm>
          <a:prstGeom prst="rect">
            <a:avLst/>
          </a:prstGeom>
          <a:ln w="0">
            <a:noFill/>
          </a:ln>
        </p:spPr>
      </p:pic>
      <p:sp>
        <p:nvSpPr>
          <p:cNvPr id="362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Process: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Find 2 people who have DIFFERENT COLORED articles than you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Follow the protocol on the Visual Representation handout, with each person creating a version of the visual to share with other groups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Deliverable: 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Each group member should have a version of the visual representation you negotiated and be prepared to explain it to others in the class. 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5T00:01:36Z</dcterms:created>
  <dc:creator>Phil Bear</dc:creator>
  <dc:description/>
  <dc:language>en-US</dc:language>
  <cp:lastModifiedBy>Phil Bear</cp:lastModifiedBy>
  <dcterms:modified xsi:type="dcterms:W3CDTF">2011-04-05T01:07:03Z</dcterms:modified>
  <cp:revision>8</cp:revision>
  <dc:subject/>
  <dc:title>What Do We Need to Accomplish Today?</dc:title>
</cp:coreProperties>
</file>